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CD0-F3F4-421D-9299-C298E16A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ute spreche ich über kulturelle Vielfalt in den deutschsprachigen Länder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lfalt der Bevölker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FDE8-1600-4511-AFB2-C9A66F97F28F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 Bevölkerung von Deutschland ist mehr als achzig zwei Millio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F7A2-3035-4834-A4C4-DCC84469F0A5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 gibt viele europäische Leute in dem Deutschland leb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96D0-ABEF-426A-9D31-D93540CBA5E7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utschland versucht, Multikulturalismus anzunehmen, da es 3,5 Millionen Türken in Deutschland gib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9853-8C5E-406D-8906-F96BE2424EC6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unnitisch Moslem ist die gemeinsamste muslimisch Bevölkerung in Deutsch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00B7-C7AE-4A17-BDB9-DFBB85166163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Anzahl von Einwanderern in Deutschland vermehrt. Reine deutsche Bevölkerung nimmt 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06E7-8428-4298-A762-96B63562B765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ielen deutschen Städten werden bei den Einwanderern beeinflus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73DB-6B71-4262-BFE4-8E35B958DA32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 sind die Fra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B6B7-2704-4D6C-97D4-617756896723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 sind die Antwor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B6B8-97D1-4F30-B764-87648ECAAC88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7CF-BBA4-4EAC-B9A9-9DD003D4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0B5-66BF-4481-81EB-B30F409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6CF-B758-43FD-BF24-4071B899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74A-8224-4717-A2A4-09481F69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2930-7A01-40D8-933A-C95A5A7A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E4C-FC50-443C-940C-DC3B3CFC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A68D-E3CB-42A5-8A1E-56DFF84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F329-14A6-4652-B6CA-20E17CD3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FFEE-94E8-4EFC-8E39-0D3FEB2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78C-2FB0-4450-B8AF-5B0EA015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279C-A3F1-4ACD-A4D2-CF845DC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7F8-8B55-495E-BC0C-A2794199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CB65-F2BC-4CAC-A70B-9CEFE2A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75CF-D0FE-4AB8-8588-BCDA962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44F-4AF3-461B-BBA0-5CD1BE2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E1AA-AC6C-4916-9DE4-7D2035F7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84C1-1BAB-4786-8FC6-73AEFBD8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3F6-CEF6-4DA2-A165-98BD638B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928-E5A3-4C06-BEDD-4FDF72B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962-4EA4-4F56-97B2-F4E24008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E7E-5E2B-4CB3-8AA1-3686FCDD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5E6-37A9-4AA8-AF7A-A9E268A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1EC-3770-4A64-8E6D-0552D18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2F8-2FA0-4223-BA4D-C311512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081-206D-4BA9-BE2E-C6006C654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840" y="56880"/>
              <a:ext cx="3623400" cy="6134760"/>
              <a:chOff x="5406840" y="56880"/>
              <a:chExt cx="3623400" cy="61347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8000" y="341280"/>
                <a:ext cx="2109600" cy="2354760"/>
              </a:xfrm>
              <a:custGeom>
                <a:avLst/>
                <a:gdLst>
                  <a:gd name="textAreaLeft" fmla="*/ 0 w 2109600"/>
                  <a:gd name="textAreaRight" fmla="*/ 2109960 w 210960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5720" y="1959480"/>
                <a:ext cx="903600" cy="841320"/>
              </a:xfrm>
              <a:custGeom>
                <a:avLst/>
                <a:gdLst>
                  <a:gd name="textAreaLeft" fmla="*/ 0 w 903600"/>
                  <a:gd name="textAreaRight" fmla="*/ 903960 w 903600"/>
                  <a:gd name="textAreaTop" fmla="*/ -360 h 841320"/>
                  <a:gd name="textAreaBottom" fmla="*/ 841320 h 8413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8480" y="2584080"/>
                <a:ext cx="438120" cy="39420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-360 h 394200"/>
                  <a:gd name="textAreaBottom" fmla="*/ 394200 h 39420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640" y="668160"/>
                <a:ext cx="387720" cy="54972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440" y="2646720"/>
                <a:ext cx="162720" cy="33120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331200"/>
                  <a:gd name="textAreaBottom" fmla="*/ 331200 h 33120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39120"/>
                <a:ext cx="189720" cy="1429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3640"/>
                <a:ext cx="522360" cy="32644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360 h 3264480"/>
                  <a:gd name="textAreaBottom" fmla="*/ 3265200 h 32644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94480"/>
              <a:ext cx="897840" cy="820080"/>
              <a:chOff x="5646240" y="294480"/>
              <a:chExt cx="897840" cy="820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78228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6200"/>
                <a:ext cx="311400" cy="300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9672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7080"/>
              <a:ext cx="1059120" cy="833400"/>
              <a:chOff x="968760" y="525708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1988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444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251-5012-4E92-B585-34613CD7B181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COB_data_Germany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Cultural Diversity in German Speaking Countries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pulation Divers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orks Cite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3091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ording to: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ll Wonders Hote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The population of Germany is more than 82 million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Germany is the most populous in the whole of Europe Union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3. There are about 2 million Turks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4. Other immigrants mainly come from Italy, Greece, Poland, Serbia, and Croatia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5. Germany is a home to the third-highest number of global migrants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File:COB data Germany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ording to: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The Souther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Germany is trying to adopt “multiculturalism”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Multiculturalism: the idea that disparate peoples can "simply live side by side and live happily with each other“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3. Germany welcomes any immigrants especially the ones with high-tech skills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4. However, many politicians argue that Germany is bound to have Christian image of humanity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5. There are 3.5 million Muslims in Germany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4" descr="http://www.deutsche-islam-konferenz.de/SharedDocs/Bilder/EN/Integration/Grafiken/muslime-in-deutschland-en,property=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ording to: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Maps of Worl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There has been declining growth of German population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Migration has helped the country to maintain its technological and commercial advantage in Europe.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A majority of German population of foreign origin are from Turkey.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They are followed by the Italians, Greeks and the Serbs.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A large number of Asian immigrants like those from India and Sri-Lanka has settled in Germany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http://www.foxnomad.com/wp-content/uploads/2010/01/german-turkish-fl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Quiz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Approximately, how many Turks are living in Germany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What is the advantage for having migrants in Germany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Two Mill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The migrants help Germany with labor since German population is declin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16:37:34Z</dcterms:created>
  <dc:creator>SCSadmin</dc:creator>
  <dc:description/>
  <dc:language>en-US</dc:language>
  <cp:lastModifiedBy>Rebecca</cp:lastModifiedBy>
  <dcterms:modified xsi:type="dcterms:W3CDTF">2011-10-19T17:14:03Z</dcterms:modified>
  <cp:revision>35</cp:revision>
  <dc:subject/>
  <dc:title>Cultural Diversity in German speaking countries</dc:title>
</cp:coreProperties>
</file>